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ACCC-0A86-4451-881A-A7ED9AD5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3FC-A70C-45F4-8A7E-2A7CC476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30B-6E8D-4717-91F5-33777C47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C82-B76F-4B9D-8678-F472F1AF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E629-AFF7-432F-8B34-3882F791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6039-A01C-445E-B5D6-39426976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2119-BC50-4777-AC69-B26A4114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2759-F72B-465E-B1D1-346B70AE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67B9-80C5-46E5-87B6-2D5712E3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8566-9D65-43AD-B63D-BA505ED0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BF51-9621-4C1F-9114-8F4F124C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7FC-F713-4876-8828-05428E2E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B48A-B4C7-48DF-8E16-38490BB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C53E-8BEC-4FBE-B97E-4FF68CDC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DC47-2D6A-4722-BFE7-4F4FDB89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E1B7-20C1-48A3-81C2-02C4D2FE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C085-9AF6-431C-BA7F-D3C198ED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F14-AF0F-430C-80BC-7A854CA8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BA2-BBA3-4C54-A5B7-2C1D0A14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FA3-5926-4F94-909C-CB7008C7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AF6-066D-4602-9915-E47E22E6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B09-17B6-4018-BE39-588C9A52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2042-B76D-4B7B-BEBC-EE0789A8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6A3-2964-482D-A81E-88B3D984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9EA4-E6E7-4AE4-8B4F-C3F7421CB5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FC90-6ECA-46A8-8E45-DF78626BE4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Badmint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419640" y="3573360"/>
            <a:ext cx="252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eriod starter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at method have you used to gather initial data on your perform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ame 4 techniques that you have observed / pla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fter identifying your weak skill what methods will you use to gather focused information on your performan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When describing a skill what 3 parts can you split the skill in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nitial da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Consideration of qua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Focused da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ovemen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Scatter gra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Knowledge of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Why are these appropria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lassification of ski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npredic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nnot control variables i.e speed / op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 volley in foot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dicta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Variable stay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ction is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 serve in badmin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472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tle decision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asic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tle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 forward ro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om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ny subroutines / p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ordination is v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ore decision m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 backhand overhead drop sh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Describing a ski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ype of sk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urpose of sk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reak it down into P.A.R and describe each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ing the worksheets, fill in the blanks detailing the purpose of each technique and when they should be used in a game.  (5 mi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omework due: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Monday 31</a:t>
            </a:r>
            <a:r>
              <a:rPr b="1" lang="en-GB" sz="24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Aug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hoose an activity. Describe the features of a model performance in a skill of your choice.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4 mar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Answering the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ame the activity and sk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type of skill is i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is the purpose of the skill? i.e. OHC is a building sh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xplain that skills can be broken down into P.A.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scribe the P.A.R of the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0:10:38Z</dcterms:created>
  <dc:creator>FlemingC1</dc:creator>
  <dc:description/>
  <dc:language>en-US</dc:language>
  <cp:lastModifiedBy>FlemingC1</cp:lastModifiedBy>
  <dcterms:modified xsi:type="dcterms:W3CDTF">2009-08-24T10:26:45Z</dcterms:modified>
  <cp:revision>2</cp:revision>
  <dc:subject/>
  <dc:title>Skills and techniques Badminton</dc:title>
</cp:coreProperties>
</file>